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7D9-BB43-409D-A48C-34E45844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735-3E5B-4DED-B318-ABFC47A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8CC-1D38-49AA-AF8F-44A4788D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0CA-026C-46D8-8D5D-77CE9B79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ACE-F9FC-49EC-892A-2C3F37E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AA2-2029-44DC-9649-56FAAD7A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EA8-491D-4524-8F35-0853BC77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672-6E1A-420B-8BA4-EBD517C3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0C4-B4BD-4354-B4B3-C8A71D05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4BA-5383-45F7-86FC-C1CA304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2F1-CCE9-4396-BD06-3BD324E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A04-E79F-4D02-B391-C797C9C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820A-7FF2-423E-926D-2C1EF568E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sites.harvard.edu/icb/icb.do?keyword=datawise&amp;pageid=icb.page385820&amp;pageContentId=icb.pagecontent800691&amp;state=maximiz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stract-design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igh School Principa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fessional Learning Community</a:t>
            </a:r>
            <a:br>
              <a:rPr sz="4000"/>
            </a:br>
            <a:r>
              <a:rPr b="1" lang="en-US" sz="4400" spc="-1" strike="noStrike">
                <a:solidFill>
                  <a:srgbClr val="215968"/>
                </a:solidFill>
                <a:latin typeface="Calibri"/>
              </a:rPr>
              <a:t>What story does the data tel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Heather Davis Schmidt, Ed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issoula County Public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Februar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bluewave-white-backgrounds-wallpap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27296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rgets for today’s mee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769840"/>
            <a:ext cx="7315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questions abou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 to a shared understanding of what we see in the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oward a priority question to which we are committed to investi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2039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" descr=""/>
          <p:cNvPicPr/>
          <p:nvPr/>
        </p:nvPicPr>
        <p:blipFill>
          <a:blip r:embed="rId1"/>
          <a:stretch/>
        </p:blipFill>
        <p:spPr>
          <a:xfrm>
            <a:off x="237960" y="285840"/>
            <a:ext cx="86680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4679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art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92512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art 1" descr=""/>
          <p:cNvPicPr/>
          <p:nvPr/>
        </p:nvPicPr>
        <p:blipFill>
          <a:blip r:embed="rId1"/>
          <a:stretch/>
        </p:blipFill>
        <p:spPr>
          <a:xfrm>
            <a:off x="378000" y="-6480"/>
            <a:ext cx="8388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art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8520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ummer-time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ta Wise Proje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vard Un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Excel and Power Point Tutori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IND THEM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55:33Z</dcterms:created>
  <dc:creator>HD</dc:creator>
  <dc:description/>
  <dc:language>en-US</dc:language>
  <cp:lastModifiedBy>HD</cp:lastModifiedBy>
  <dcterms:modified xsi:type="dcterms:W3CDTF">2012-02-15T14:29:54Z</dcterms:modified>
  <cp:revision>8</cp:revision>
  <dc:subject/>
  <dc:title>Slide 1</dc:title>
</cp:coreProperties>
</file>